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15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45.jpeg" ContentType="image/jpeg"/>
  <Override PartName="/ppt/media/image4.wmf" ContentType="image/x-wmf"/>
  <Override PartName="/ppt/media/image8.jpeg" ContentType="image/jpeg"/>
  <Override PartName="/ppt/media/image39.jpeg" ContentType="image/jpeg"/>
  <Override PartName="/ppt/media/image46.jpeg" ContentType="image/jpeg"/>
  <Override PartName="/ppt/media/image9.wmf" ContentType="image/x-wmf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9F6-5D63-4F7B-967D-0E27686E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08C-F9EC-4BC4-B2D3-DE8BCE57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DF1-2E91-46B7-AAC6-2087AD47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622-2CF8-496B-9020-53376A78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F229-6EFE-495C-BAD5-B8DA2C51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85CF-D280-4BF3-A3A8-66EAAFE7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8490-CDF1-494B-87C3-FB2A40C3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460-88E9-48AE-94F5-C58D755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3277-DB49-495A-9EC8-084B1B8D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5F29-E12D-4A14-BF8B-3EA231DE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0DDD-B1FD-47B0-A93E-532E2535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8A4-B76F-4772-914B-FD9BA9E7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01A1-0AFC-4554-9AFD-C4C4D62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F0E-6E31-4139-8F4F-6EB92CF4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3F82-061C-41A2-A49F-E282844B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7034-2370-479B-85E9-983E420A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B58C-4646-484D-8BBB-EBD6907D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5EF-9536-4E0F-8D16-1E5462C8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F7D-F78E-47C3-A591-0FBC33E8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A3E-E5BE-45CB-A8C9-A32CA907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487-03EF-4E2C-AFC1-DB2C1C9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6DA-6980-490C-8BAD-8716343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8D2-884D-479C-B811-9E478579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313-6FA5-4728-8897-D630A13F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3AE-6579-4CE3-9B20-35315A32AC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15F-D0AC-4B91-9D04-C2F8F91C62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g.wikipedia.org/wiki/&#1058;&#1091;&#1088;&#1089;&#1082;&#1080;_&#1077;&#1079;&#1080;&#1082;" TargetMode="External"/><Relationship Id="rId2" Type="http://schemas.openxmlformats.org/officeDocument/2006/relationships/hyperlink" Target="http://bg.wikipedia.org/wiki/&#1041;&#1098;&#1083;&#1075;&#1072;&#1088;&#1080;&#1103;" TargetMode="External"/><Relationship Id="rId3" Type="http://schemas.openxmlformats.org/officeDocument/2006/relationships/hyperlink" Target="http://bg.wikipedia.org/wiki/&#1042;&#1098;&#1079;&#1088;&#1072;&#1078;&#1076;&#1072;&#1085;&#1077;" TargetMode="External"/><Relationship Id="rId4" Type="http://schemas.openxmlformats.org/officeDocument/2006/relationships/hyperlink" Target="http://bg.wikipedia.org/w/index.php?title=&#1057;&#1090;&#1088;&#1086;&#1080;&#1090;&#1077;&#1083;&amp;action=edit&amp;redlink=1" TargetMode="External"/><Relationship Id="rId5" Type="http://schemas.openxmlformats.org/officeDocument/2006/relationships/hyperlink" Target="http://bg.wikipedia.org/wiki/&#1057;&#1082;&#1091;&#1083;&#1087;&#1090;&#1086;&#1088;" TargetMode="External"/><Relationship Id="rId6" Type="http://schemas.openxmlformats.org/officeDocument/2006/relationships/hyperlink" Target="http://bg.wikipedia.org/wiki/&#1044;&#1088;&#1103;&#1085;&#1086;&#1074;&#1086;" TargetMode="External"/><Relationship Id="rId7" Type="http://schemas.openxmlformats.org/officeDocument/2006/relationships/hyperlink" Target="http://bg.wikipedia.org/wiki/&#1058;&#1088;&#1103;&#1074;&#1085;&#1072;" TargetMode="External"/><Relationship Id="rId8" Type="http://schemas.openxmlformats.org/officeDocument/2006/relationships/hyperlink" Target="http://bg.wikipedia.org/wiki/&#1050;&#1086;&#1088;&#1095;&#1072;" TargetMode="External"/><Relationship Id="rId9" Type="http://schemas.openxmlformats.org/officeDocument/2006/relationships/hyperlink" Target="http://bg.wikipedia.org/wiki/&#1062;&#1098;&#1088;&#1082;&#1074;&#1072;" TargetMode="External"/><Relationship Id="rId10" Type="http://schemas.openxmlformats.org/officeDocument/2006/relationships/hyperlink" Target="http://bg.wikipedia.org/wiki/&#1050;&#1072;&#1084;&#1073;&#1072;&#1085;&#1072;&#1088;&#1080;&#1103;" TargetMode="External"/><Relationship Id="rId11" Type="http://schemas.openxmlformats.org/officeDocument/2006/relationships/hyperlink" Target="http://bg.wikipedia.org/wiki/&#1052;&#1086;&#1089;&#1090;" TargetMode="External"/><Relationship Id="rId12" Type="http://schemas.openxmlformats.org/officeDocument/2006/relationships/hyperlink" Target="http://bg.wikipedia.org/wiki/&#1041;&#1088;&#1072;&#1094;&#1080;&#1075;&#1086;&#1074;&#1086;" TargetMode="External"/><Relationship Id="rId13" Type="http://schemas.openxmlformats.org/officeDocument/2006/relationships/hyperlink" Target="http://bg.wikipedia.org/w/index.php?title=&#1050;&#1072;&#1083;&#1092;&#1072;&amp;action=edit&amp;redlink=1" TargetMode="External"/><Relationship Id="rId14" Type="http://schemas.openxmlformats.org/officeDocument/2006/relationships/hyperlink" Target="http://bg.wikipedia.org/wiki/&#1057;&#1090;&#1088;&#1086;&#1080;&#1090;&#1077;&#1083;&#1089;&#1090;&#1074;&#1086;" TargetMode="External"/><Relationship Id="rId15" Type="http://schemas.openxmlformats.org/officeDocument/2006/relationships/hyperlink" Target="http://bg.wikipedia.org/wiki/&#1045;&#1089;&#1085;&#1072;&#1092;" TargetMode="External"/><Relationship Id="rId16" Type="http://schemas.openxmlformats.org/officeDocument/2006/relationships/hyperlink" Target="http://bg.wikipedia.org/w/index.php?title=&#1052;&#1072;&#1081;&#1089;&#1090;&#1086;&#1088;&amp;action=edit&amp;redlink=1" TargetMode="External"/><Relationship Id="rId17" Type="http://schemas.openxmlformats.org/officeDocument/2006/relationships/hyperlink" Target="http://bg.wikipedia.org/wiki/&#1058;&#1091;&#1088;&#1089;&#1082;&#1080;_&#1077;&#1079;&#1080;&#1082;" TargetMode="External"/><Relationship Id="rId18" Type="http://schemas.openxmlformats.org/officeDocument/2006/relationships/hyperlink" Target="http://bg.wikipedia.org/wiki/&#1043;&#1088;&#1098;&#1094;&#1082;&#1080;_&#1077;&#1079;&#1080;&#1082;" TargetMode="External"/><Relationship Id="rId19" Type="http://schemas.openxmlformats.org/officeDocument/2006/relationships/hyperlink" Target="http://bg.wikipedia.org/wiki/&#1056;&#1091;&#1084;&#1098;&#1085;&#1089;&#1082;&#1080;_&#1077;&#1079;&#1080;&#1082;" TargetMode="External"/><Relationship Id="rId20" Type="http://schemas.openxmlformats.org/officeDocument/2006/relationships/hyperlink" Target="http://bg.wikipedia.org/wiki/&#1052;&#1086;&#1089;&#1090;" TargetMode="External"/><Relationship Id="rId21" Type="http://schemas.openxmlformats.org/officeDocument/2006/relationships/hyperlink" Target="http://bg.wikipedia.org/wiki/&#1054;&#1089;&#1084;&#1072;&#1085;&#1089;&#1082;&#1072;_&#1080;&#1084;&#1087;&#1077;&#1088;&#1080;&#1103;" TargetMode="External"/><Relationship Id="rId22" Type="http://schemas.openxmlformats.org/officeDocument/2006/relationships/image" Target="../media/image33.jpeg"/><Relationship Id="rId2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g.wikipedia.org/w/index.php?title=&#1057;&#1098;&#1086;&#1088;&#1098;&#1078;&#1077;&#1085;&#1080;&#1077;&amp;action=edit&amp;redlink=1" TargetMode="External"/><Relationship Id="rId2" Type="http://schemas.openxmlformats.org/officeDocument/2006/relationships/hyperlink" Target="http://bg.wikipedia.org/wiki/&#1058;&#1077;&#1084;&#1087;&#1077;&#1088;&#1072;&#1090;&#1091;&#1088;&#1072;" TargetMode="External"/><Relationship Id="rId3" Type="http://schemas.openxmlformats.org/officeDocument/2006/relationships/hyperlink" Target="http://bg.wikipedia.org/wiki/&#1041;&#1072;&#1082;&#1090;&#1077;&#1088;&#1080;&#1080;" TargetMode="External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g.wikipedia.org/wiki/&#1058;&#1077;&#1093;&#1085;&#1080;&#1095;&#1077;&#1089;&#1082;&#1072;_&#1085;&#1072;&#1091;&#1082;&#1072;" TargetMode="External"/><Relationship Id="rId2" Type="http://schemas.openxmlformats.org/officeDocument/2006/relationships/hyperlink" Target="http://bg.wikipedia.org/wiki/&#1048;&#1079;&#1082;&#1091;&#1089;&#1090;&#1074;&#1086;" TargetMode="External"/><Relationship Id="rId3" Type="http://schemas.openxmlformats.org/officeDocument/2006/relationships/hyperlink" Target="http://bg.wikipedia.org/wiki/&#1057;&#1075;&#1088;&#1072;&#1076;&#1072;" TargetMode="External"/><Relationship Id="rId4" Type="http://schemas.openxmlformats.org/officeDocument/2006/relationships/hyperlink" Target="http://bg.wikipedia.org/wiki/&#1057;&#1090;&#1088;&#1086;&#1080;&#1090;&#1077;&#1083;&#1089;&#1090;&#1074;&#1086;" TargetMode="External"/><Relationship Id="rId5" Type="http://schemas.openxmlformats.org/officeDocument/2006/relationships/hyperlink" Target="http://bg.wikipedia.org/wiki/&#1050;&#1086;&#1085;&#1089;&#1090;&#1088;&#1091;&#1082;&#1094;&#1080;&#1103;" TargetMode="External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С Г Р А Д И Т Е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минало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настояще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99"/>
                </a:solidFill>
                <a:latin typeface="Arial"/>
              </a:rPr>
              <a:t>бъдеще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6000" y="568152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ара Атанасова СОУ”Екзарх Антим І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ДВОРЕЦЪТ ВЪВ ВЕЛИКИ ПРЕСЛА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ТАДИОН ОТ РИМСКО ВРЕМ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АЛДУИНОВАТА КУЛ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ЪЗРОЖДЕНСКА КЪЩ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2881080" cy="18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08000" y="3860640"/>
            <a:ext cx="2028960" cy="2232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2735280" cy="1571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435640" y="4508640"/>
            <a:ext cx="3095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ЛЬО ФИЧЕ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ольо Фиче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истинско име: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икола Иванов Фичев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, наричан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Уста Колю Фичето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от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турскот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„уста“ - майстор, професор), е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българс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възрожденс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строите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архитект 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скулпт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роден в град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Дрянов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през 1800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станал сирак без баща на 3 години, едва 10-годишен той започва да учи занаят пр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тревненскит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майстори дюлгери. На 17-годишна възраст се учи при майстори от западнобългарската строителна школа от град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Корча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как се дяла камъкът, а след това усвоява строежа на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църкв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камбанари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мостов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от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брациговските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майстори. Още млад, 23 годишен, той е вече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калф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а на 36 години е общопризнат от целия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дюлгерс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еснаф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за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майстор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наел е отлично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турски език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, говорил е добре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гръцки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румънски език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. Известен е с това, че когато построил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мост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по време на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османското владичество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, при изпробването му легнал под него, за да гарантира за сигурността на преминаващите с живота с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2"/>
          <a:stretch/>
        </p:blipFill>
        <p:spPr>
          <a:xfrm>
            <a:off x="6804000" y="115920"/>
            <a:ext cx="1540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Къщата с маймунка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критият мост в Ловеч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Мостът край Бял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Чешма в Соколски манастир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Манастир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Църкв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2376720" cy="1355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27640" y="260280"/>
            <a:ext cx="2089440" cy="144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308720" y="2565360"/>
            <a:ext cx="14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211640" y="47628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763640" y="4508640"/>
            <a:ext cx="1513080" cy="201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4788000" y="4437000"/>
            <a:ext cx="32446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ЯТ ГРАД В МИНАЛОТ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665520" cy="3265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81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40975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59280" y="115920"/>
            <a:ext cx="4156200" cy="293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92720" y="3429000"/>
            <a:ext cx="3522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09880" cy="6105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2952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во са сградите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градат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или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даниет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е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съоръжени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трайно свързано със земята и предназначено да предпазва хора или предмети от атмосферните въздействия. Сградите могат да имат различна сложност - от прост навес, предпазващ от дъжда отделен човек, до болничен комплекс с регулирана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температура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, въздушни потоци, осветление, газово съдържание, движение на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бактери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и частици, налягане на въздуха и човешка дейнос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669080" y="504036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рхитектур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ва е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техническа наук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изкуство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за изграждане на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сград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и други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строителн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конструкции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. Професията на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рхитект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обхваща различни дейности, свързани с проектирането и строителството на сгради или групи от сгради, както и на окръжаващото ги пространство, предназначено за обитаване или използване от хорат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7380360" y="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7485120" y="5445000"/>
            <a:ext cx="16588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 Р А Д И Ц И 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ЪРВЕНИ ПОСТРОЙ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ХРАМ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ВОРЦ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ЦЪРКВ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2808360" cy="203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3640" y="2421000"/>
            <a:ext cx="2300400" cy="292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88000" y="4508640"/>
            <a:ext cx="207468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258920" y="429264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КАКВО ПРЕДСТАВЛЯВА ПРОФЕСИЯТА НА</a:t>
            </a:r>
            <a:br>
              <a:rPr sz="1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АРХИТЕКТА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Работата на </a:t>
            </a:r>
            <a:r>
              <a:rPr b="0" i="1" lang="bg-BG" sz="1800" spc="-1" strike="noStrike">
                <a:solidFill>
                  <a:srgbClr val="003366"/>
                </a:solidFill>
                <a:latin typeface="Arial"/>
              </a:rPr>
              <a:t>архитекта</a:t>
            </a: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 включва някои от следните дейност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раждане на архитектурна иде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предварителни (прединвестиционни) и обемно-устройствени проучвания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изработване на инвестиционни проект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подготовка на тръжни книжа за избор на изпълнител на инвестиционни проект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съдействие на възложителя при реализация на проект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авторски надзор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експертни дейности и консултаци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изготвяне на екзекутивна документация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участие в процедури за въвеждане на обекти в експлоатация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66"/>
                </a:solidFill>
                <a:latin typeface="Arial"/>
              </a:rPr>
              <a:t>ангажименти в рамките на гаранционните сроков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335720" y="335772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РХИТЕКТУРАТА ДНЕС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59272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105552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16000" y="270828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5280" y="256536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093080" y="508464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508720" y="4797360"/>
            <a:ext cx="119988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042920" y="5013360"/>
            <a:ext cx="1800360" cy="134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2987640" y="3933720"/>
            <a:ext cx="23050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Й- ИЗВЕСТНИТЕ СГРАДИ В СВЕ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3141720"/>
            <a:ext cx="129708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77080" y="2565360"/>
            <a:ext cx="18669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700360" y="4869000"/>
            <a:ext cx="2303280" cy="1800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580000" y="472428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СГРАДИТЕ Н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БЪДЕЩЕТ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168720" cy="2694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559320" cy="324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3746520" cy="2516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08000" y="4869000"/>
            <a:ext cx="29530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РАДИЦИИ В БЪЛГАРСКАТА АРХИТЕКТУ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рхитектурата заема важно място в културното развитие на народите, населявали българските земи. Територията на България е богата с разнообразни архитектурни паметници, построени от различни народи при различни епох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93080" y="5013360"/>
            <a:ext cx="16430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7:01:15Z</dcterms:created>
  <dc:creator>Home</dc:creator>
  <dc:description/>
  <dc:language>en-US</dc:language>
  <cp:lastModifiedBy>Home</cp:lastModifiedBy>
  <dcterms:modified xsi:type="dcterms:W3CDTF">2012-03-11T17:32:38Z</dcterms:modified>
  <cp:revision>8</cp:revision>
  <dc:subject/>
  <dc:title>С Г Р А Д И Т Е </dc:title>
</cp:coreProperties>
</file>